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24F-35C2-497B-9260-6843CBC6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AA8-7AEE-483A-90B9-53C5B5FF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B1D-F785-494E-A47A-F852A754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ECA-5DA2-4AA3-AC2B-FF231ED0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6BA2-F781-4EDA-9EE8-C6D7B052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13C5-BA71-486E-9057-8F5E20DB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13FB-E412-4EED-B552-E12ED073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A834-D7EF-407F-8672-9089363A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5C9C-4A32-4264-A1F1-3B57CF59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1389-6E4F-467B-B17A-2B5B3217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83D2-1083-4430-ACC6-1B0054C8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AFA-C0E2-46BB-8A08-614F84CC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1A8F-425B-4E64-AFAC-81F5EAA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BF5E-C4B8-4A72-A537-48DE08E8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9355-7E2C-435D-A15F-B3ABDEC8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BAA0-E573-4247-B192-BBF01DE1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8943-D87E-43B6-B4D7-5D8629BE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FAC-020D-4F66-9F9D-6A1A20BD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122-C974-4922-BCF0-B68BCD05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837-101B-49CC-95B3-330F106E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630-5A73-46A4-BB89-24F2A550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F11-7571-49F0-953D-91D26DB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BE8-C072-45FF-ABC4-4BC19DB6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D82-5B73-489B-AD8E-ED090998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5254-5FE5-4020-AA8C-BAE30DA73D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4D9D-5105-4558-8842-108E86FFD3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Manufacturing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partments in Indust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inee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man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nageme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s sure all the departments work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company policies and then makes sure the other departments follow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ked in a hierarchical ord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ies includ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ganiz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rol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valu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ngineer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igns, produces, and tests the first model of a new product (prototype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conduct tests and experi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departments have a research and development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ypes of engineers includ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ufactur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ality cont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duction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s up and uses the tools and machine to make the produ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agement worker, the supervisor, is in char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vided into skilled, semi-skilled, and unskilled lab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rket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ducts market research and advertises, packages, sells, and distributes the produ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includes: statisticians, advertisers, package designers, salespeople, and shipping work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inan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s track of all income and expenditu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enditures include: payroll, material costs, utility costs, and buying and maintaining tools, equipment, and mach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includes: accountants, bookkeepers, and other record keep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uman Resour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sible f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rui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goti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and Safe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intains safe environment by the Occupational Safety and Health administration (OSH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blic Rel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terial Process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y Manufacturing Proce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ary Manufacturing Proce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ished produ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imary Manufacturing proces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3800" indent="-613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materials must change from their raw state to a more useful form for secondary manufactur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taining raw mate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materials- separates the useful part from the unwanted and less useful mate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chanical ref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emical ref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mal ref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ufacturing standard mate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1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econdary Manufacturing process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parating too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ing too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bining too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too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hat is manufacturing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ctionary.com defines it 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aking of goods or wares by manual labor or by machinery, especially on a large sca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eparating too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ove part of the original material and leave the required size and shap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ip remov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rills and b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aw blad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t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les, grinders, and abrasive pap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earing tools (shears, chisels, and punch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orming too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st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ressing and stretch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dition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mbining too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at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nd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chanical fasten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ther too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asur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lding-Clamps and pli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sitioning-Jigs and fixt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nsporting mach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haracteristics of Mass Produc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cision measur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ndard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change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haracteristics in choosing they type of manufactur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lume to be produ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ailability of necessary inpu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s of products to be m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fe cycle or durability of a produ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tion philosophy of the organ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ypes of manufactur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ous Manufactu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mittent (batch) manufactu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 manufactur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st-in-time (JIT) (kanban) manufactu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ous Manufactur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duces a large # of identical produ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rrow production line (company makes only one produc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: TVs, radios, refrigerators, food, and utensi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ires workers to be specialized at their jo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termittent (batch) manufactur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ny has a large inven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osen for medium length production runs of a wide variety of produ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-up and tooling are changed often because of modif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antage: same production line may be used for different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: holiday candy, musical instruments, and house pai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ustom manufacturing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duces one or just a few products at a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product is uniq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blem solving and trouble shooting are necessary sk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ces of final product is quite hig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: large yachts, airplanes, custom tools, jewelry, pottery, custom furniture and s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Just-in-time (JIT) (kanban) manufactur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applied to the different types of manufactu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y goals: reduce the inactive inventory and cut lot siz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21:34Z</dcterms:created>
  <dc:creator>slwilke</dc:creator>
  <dc:description/>
  <dc:language>en-US</dc:language>
  <cp:lastModifiedBy>slwilke</cp:lastModifiedBy>
  <dcterms:modified xsi:type="dcterms:W3CDTF">2011-03-31T15:22:56Z</dcterms:modified>
  <cp:revision>1</cp:revision>
  <dc:subject/>
  <dc:title>Manufacturing</dc:title>
</cp:coreProperties>
</file>